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E5D-4DF9-4F36-97A4-D4E9078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428-6AB8-4530-8928-751F645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956-F93C-440C-AE5D-16B2320B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D55-8CEF-4C7F-A32C-A7AEA3BB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423-163C-4A7A-A173-AAC76558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9FF-ABF0-4687-BDB7-B62B5868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A0F-2309-4C91-A2FE-2DCDBB0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843-948A-46EE-925F-8B7FC62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7B4-9CC2-4F4B-B068-7914EC7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5E7-4CAF-4983-93E7-B2D952F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B4C-1E2F-4EFE-B258-EA27F50E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5CF-ECBB-432B-876D-18AFFBA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A63-CF70-4123-B51C-157FADC6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1236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2924280"/>
            <a:ext cx="604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FECT CONSUL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558972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urariu En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aru Miha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151272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900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EMANUELA CERCH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-mail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emanuela.cerchez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557360"/>
            <a:ext cx="61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Business ru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1. STRUCT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573360"/>
            <a:ext cx="90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Each road can b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u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up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 one and only one comp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e store an history of the works perfor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628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2. 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371680"/>
            <a:ext cx="878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ype of the relief affects the type of the equipmen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company deals with the structure of the roads and not with its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rehabilit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ype of ground effects the type of the asphal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628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349360"/>
            <a:ext cx="8280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eam of workers will be supervised by an engine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drivers are payed at km they do for the transport of the staple from produc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Only the director concludes all the contracts with the supp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62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92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book-keeper takes the evidence of transports and costs caused by it: fuel, no of km made by each driver in part and also establishes the salary of each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148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Assum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349360"/>
            <a:ext cx="8208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e associate an id for each road, employee, supplier and co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can be build-up more roads in the sam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re is one and only one dire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547640"/>
            <a:ext cx="842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 road can’t be build-up by more companies in the sam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won’t be made works in days of national holidays and on su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director is not participating directly to any construction or snow-clea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1547640"/>
            <a:ext cx="85694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WEATHER 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won't be any wor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u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nfavourab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weather repor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 the winter time the company will clear the snow of the stre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  the winter time, each driver who clear the snow is assigned a mech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8000" y="5229360"/>
            <a:ext cx="1223640" cy="1512360"/>
            <a:chOff x="108000" y="5229360"/>
            <a:chExt cx="1223640" cy="1512360"/>
          </a:xfrm>
        </p:grpSpPr>
        <p:sp>
          <p:nvSpPr>
            <p:cNvPr id="119" name=""/>
            <p:cNvSpPr/>
            <p:nvPr/>
          </p:nvSpPr>
          <p:spPr>
            <a:xfrm>
              <a:off x="108000" y="5229360"/>
              <a:ext cx="1223640" cy="151236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512360"/>
                <a:gd name="textAreaBottom" fmla="*/ 1452960 h 1512360"/>
              </a:gdLst>
              <a:ahLst/>
              <a:rect l="textAreaLeft" t="textAreaTop" r="textAreaRight" b="textAreaBottom"/>
              <a:pathLst>
                <a:path w="21600" h="26695">
                  <a:moveTo>
                    <a:pt x="3600" y="0"/>
                  </a:moveTo>
                  <a:arcTo wR="3600" hR="3600" stAng="16200000" swAng="-5400000"/>
                  <a:lnTo>
                    <a:pt x="0" y="23095"/>
                  </a:lnTo>
                  <a:arcTo wR="3600" hR="3600" stAng="10800000" swAng="-5400000"/>
                  <a:lnTo>
                    <a:pt x="18000" y="26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400" y="5306040"/>
              <a:ext cx="107064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40720" y="333360"/>
            <a:ext cx="1152360" cy="17985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798560"/>
              <a:gd name="textAreaBottom" fmla="*/ 1742400 h 1798560"/>
            </a:gdLst>
            <a:ahLst/>
            <a:rect l="textAreaLeft" t="textAreaTop" r="textAreaRight" b="textAreaBottom"/>
            <a:pathLst>
              <a:path w="21600" h="33709">
                <a:moveTo>
                  <a:pt x="3600" y="0"/>
                </a:moveTo>
                <a:arcTo wR="3600" hR="3600" stAng="16200000" swAng="-5400000"/>
                <a:lnTo>
                  <a:pt x="0" y="30109"/>
                </a:lnTo>
                <a:arcTo wR="3600" hR="3600" stAng="10800000" swAng="-5400000"/>
                <a:lnTo>
                  <a:pt x="18000" y="337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596360" y="2276640"/>
            <a:ext cx="1368360" cy="1152360"/>
            <a:chOff x="7596360" y="2276640"/>
            <a:chExt cx="1368360" cy="1152360"/>
          </a:xfrm>
        </p:grpSpPr>
        <p:sp>
          <p:nvSpPr>
            <p:cNvPr id="123" name=""/>
            <p:cNvSpPr/>
            <p:nvPr/>
          </p:nvSpPr>
          <p:spPr>
            <a:xfrm>
              <a:off x="7596360" y="2276640"/>
              <a:ext cx="1368360" cy="1152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67640" y="2349360"/>
              <a:ext cx="12240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constr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o of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157720"/>
            <a:ext cx="1008360" cy="151128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511280"/>
              <a:gd name="textAreaBottom" fmla="*/ 1462320 h 1511280"/>
            </a:gdLst>
            <a:ahLst/>
            <a:rect l="textAreaLeft" t="textAreaTop" r="textAreaRight" b="textAreaBottom"/>
            <a:pathLst>
              <a:path w="21600" h="32369">
                <a:moveTo>
                  <a:pt x="3600" y="0"/>
                </a:moveTo>
                <a:arcTo wR="3600" hR="3600" stAng="16200000" swAng="-5400000"/>
                <a:lnTo>
                  <a:pt x="0" y="28769"/>
                </a:lnTo>
                <a:arcTo wR="3600" hR="3600" stAng="10800000" swAng="-5400000"/>
                <a:lnTo>
                  <a:pt x="18000" y="3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8120" y="5408640"/>
            <a:ext cx="85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5229360"/>
            <a:ext cx="755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zon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loc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380360" y="4221000"/>
            <a:ext cx="1571400" cy="1008360"/>
            <a:chOff x="7380360" y="4221000"/>
            <a:chExt cx="1571400" cy="1008360"/>
          </a:xfrm>
        </p:grpSpPr>
        <p:sp>
          <p:nvSpPr>
            <p:cNvPr id="129" name=""/>
            <p:cNvSpPr/>
            <p:nvPr/>
          </p:nvSpPr>
          <p:spPr>
            <a:xfrm>
              <a:off x="7524720" y="4221000"/>
              <a:ext cx="1427040" cy="100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80360" y="4724280"/>
              <a:ext cx="1427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6360" y="4581360"/>
              <a:ext cx="952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tart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end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67640" y="4221000"/>
              <a:ext cx="1224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24720" y="5373720"/>
            <a:ext cx="1368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516640"/>
            <a:ext cx="129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escription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6021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59500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the relie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cl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98800" y="5084640"/>
            <a:ext cx="1538280" cy="1582920"/>
            <a:chOff x="3898800" y="5084640"/>
            <a:chExt cx="1538280" cy="1582920"/>
          </a:xfrm>
        </p:grpSpPr>
        <p:sp>
          <p:nvSpPr>
            <p:cNvPr id="138" name=""/>
            <p:cNvSpPr/>
            <p:nvPr/>
          </p:nvSpPr>
          <p:spPr>
            <a:xfrm>
              <a:off x="3898800" y="5084640"/>
              <a:ext cx="1081080" cy="1582920"/>
            </a:xfrm>
            <a:custGeom>
              <a:avLst/>
              <a:gdLst>
                <a:gd name="textAreaLeft" fmla="*/ 52560 w 1081080"/>
                <a:gd name="textAreaRight" fmla="*/ 1028520 w 1081080"/>
                <a:gd name="textAreaTop" fmla="*/ 52560 h 1582920"/>
                <a:gd name="textAreaBottom" fmla="*/ 1530360 h 15829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5640" y="5229360"/>
              <a:ext cx="144144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road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wid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breadth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8360" y="620640"/>
            <a:ext cx="1150920" cy="863640"/>
            <a:chOff x="468360" y="620640"/>
            <a:chExt cx="1150920" cy="863640"/>
          </a:xfrm>
        </p:grpSpPr>
        <p:sp>
          <p:nvSpPr>
            <p:cNvPr id="141" name=""/>
            <p:cNvSpPr/>
            <p:nvPr/>
          </p:nvSpPr>
          <p:spPr>
            <a:xfrm>
              <a:off x="468360" y="620640"/>
              <a:ext cx="863280" cy="863640"/>
            </a:xfrm>
            <a:custGeom>
              <a:avLst/>
              <a:gdLst>
                <a:gd name="textAreaLeft" fmla="*/ 42120 w 863280"/>
                <a:gd name="textAreaRight" fmla="*/ 821160 w 863280"/>
                <a:gd name="textAreaTop" fmla="*/ 42120 h 863640"/>
                <a:gd name="textAreaBottom" fmla="*/ 821520 h 86364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692280"/>
              <a:ext cx="1150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a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79640" y="522936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5229360"/>
            <a:ext cx="1295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holi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2637000"/>
            <a:ext cx="1366560" cy="1008000"/>
            <a:chOff x="324000" y="2637000"/>
            <a:chExt cx="1366560" cy="1008000"/>
          </a:xfrm>
        </p:grpSpPr>
        <p:sp>
          <p:nvSpPr>
            <p:cNvPr id="146" name=""/>
            <p:cNvSpPr/>
            <p:nvPr/>
          </p:nvSpPr>
          <p:spPr>
            <a:xfrm>
              <a:off x="324000" y="2637000"/>
              <a:ext cx="1223640" cy="100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280" y="2709720"/>
              <a:ext cx="1295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CLEAR OF SN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32000" y="98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26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331640" y="907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31640" y="9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58800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126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96360" y="112500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268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172360" y="4076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17080" y="4076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72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877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164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64000" y="5011560"/>
            <a:ext cx="216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4000" y="5013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0328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0328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6237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724360" y="61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003640" y="6092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3640" y="62373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28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640" y="328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54764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581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5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4360" y="3644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70036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59640" y="26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2637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451640" y="2492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429264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08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328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45164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3284640"/>
            <a:ext cx="217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24000" y="692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692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787640" y="33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24720" y="62028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692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3789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77080" y="2923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2421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692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2997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m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2997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ke 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5589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587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595008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63817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6000" y="5877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5589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501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2852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2349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supp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3640" y="35733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v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27082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supervi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005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30686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buil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645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494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4581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580536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476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3141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98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choo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360" y="5013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404640"/>
            <a:ext cx="10447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kind of sta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404640"/>
            <a:ext cx="1368360" cy="43927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392720"/>
              <a:gd name="textAreaBottom" fmla="*/ 4326120 h 4392720"/>
            </a:gdLst>
            <a:ahLst/>
            <a:rect l="textAreaLeft" t="textAreaTop" r="textAreaRight" b="textAreaBottom"/>
            <a:pathLst>
              <a:path w="21600" h="69328">
                <a:moveTo>
                  <a:pt x="3600" y="0"/>
                </a:moveTo>
                <a:arcTo wR="3600" hR="3600" stAng="16200000" swAng="-5400000"/>
                <a:lnTo>
                  <a:pt x="0" y="65728"/>
                </a:lnTo>
                <a:arcTo wR="3600" hR="3600" stAng="10800000" swAng="-5400000"/>
                <a:lnTo>
                  <a:pt x="18000" y="69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47628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29160" y="763560"/>
            <a:ext cx="13017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26000" y="2492280"/>
            <a:ext cx="84600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2924280"/>
            <a:ext cx="102204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3645000"/>
            <a:ext cx="936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l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4149720"/>
            <a:ext cx="86652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97280" y="4508640"/>
            <a:ext cx="8460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28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63528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478764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87640" y="30686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643280" y="4220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643280" y="4292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787640" y="328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78764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716360" y="371592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716360" y="378936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8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2924280"/>
            <a:ext cx="93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r’s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lic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4149720"/>
            <a:ext cx="4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414972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8000" y="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ELIMINARY ER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03640" y="573408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003640" y="55893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451640" y="285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7451640" y="292392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755640" y="476280"/>
            <a:ext cx="1368360" cy="4392720"/>
            <a:chOff x="755640" y="476280"/>
            <a:chExt cx="1368360" cy="4392720"/>
          </a:xfrm>
        </p:grpSpPr>
        <p:sp>
          <p:nvSpPr>
            <p:cNvPr id="256" name=""/>
            <p:cNvSpPr/>
            <p:nvPr/>
          </p:nvSpPr>
          <p:spPr>
            <a:xfrm>
              <a:off x="755640" y="476280"/>
              <a:ext cx="1368360" cy="43927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4392720"/>
                <a:gd name="textAreaBottom" fmla="*/ 4326120 h 4392720"/>
              </a:gdLst>
              <a:ahLst/>
              <a:rect l="textAreaLeft" t="textAreaTop" r="textAreaRight" b="textAreaBottom"/>
              <a:pathLst>
                <a:path w="21600" h="69328">
                  <a:moveTo>
                    <a:pt x="3600" y="0"/>
                  </a:moveTo>
                  <a:arcTo wR="3600" hR="3600" stAng="16200000" swAng="-5400000"/>
                  <a:lnTo>
                    <a:pt x="0" y="65728"/>
                  </a:lnTo>
                  <a:arcTo wR="3600" hR="3600" stAng="10800000" swAng="-5400000"/>
                  <a:lnTo>
                    <a:pt x="18000" y="69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547920"/>
              <a:ext cx="11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0800" y="835200"/>
              <a:ext cx="130176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employee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date of bir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ala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phone n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 tr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Hour relate for extra-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17640" y="2563920"/>
              <a:ext cx="846000" cy="360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6920" y="2995920"/>
              <a:ext cx="1022400" cy="64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1640" y="3716640"/>
              <a:ext cx="936360" cy="431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cal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4221360"/>
              <a:ext cx="86652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88920" y="4580280"/>
              <a:ext cx="84600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0000" y="2995920"/>
              <a:ext cx="934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car’s n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58920" y="4221360"/>
              <a:ext cx="43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1640" y="4221360"/>
              <a:ext cx="93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516720" y="2421000"/>
            <a:ext cx="1368360" cy="1152360"/>
            <a:chOff x="6516720" y="2421000"/>
            <a:chExt cx="1368360" cy="1152360"/>
          </a:xfrm>
        </p:grpSpPr>
        <p:sp>
          <p:nvSpPr>
            <p:cNvPr id="268" name=""/>
            <p:cNvSpPr/>
            <p:nvPr/>
          </p:nvSpPr>
          <p:spPr>
            <a:xfrm>
              <a:off x="6516720" y="2421000"/>
              <a:ext cx="1368360" cy="1152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2493720"/>
              <a:ext cx="12240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constr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o of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276720" y="1052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119700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Y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060640"/>
            <a:ext cx="19429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21337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VISION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068640"/>
            <a:ext cx="19429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14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321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484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126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132000" y="1196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126828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71640" y="227664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22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32000" y="220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2276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9280" y="328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9280" y="3284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132000" y="321120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32000" y="3284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1268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1268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96000" y="2276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44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24000" y="3284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860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728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90792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299736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19640" y="227664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19640" y="328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3213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19640" y="1267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119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2565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3284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1337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964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9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2720" y="981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3645000"/>
            <a:ext cx="1368360" cy="93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51280" y="472428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chedul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851280" y="4653000"/>
            <a:ext cx="1225440" cy="1800360"/>
            <a:chOff x="3851280" y="4653000"/>
            <a:chExt cx="1225440" cy="1800360"/>
          </a:xfrm>
        </p:grpSpPr>
        <p:sp>
          <p:nvSpPr>
            <p:cNvPr id="318" name=""/>
            <p:cNvSpPr/>
            <p:nvPr/>
          </p:nvSpPr>
          <p:spPr>
            <a:xfrm>
              <a:off x="3851280" y="4653000"/>
              <a:ext cx="1225440" cy="1800360"/>
            </a:xfrm>
            <a:custGeom>
              <a:avLst/>
              <a:gdLst>
                <a:gd name="textAreaLeft" fmla="*/ 59760 w 1225440"/>
                <a:gd name="textAreaRight" fmla="*/ 1165680 w 1225440"/>
                <a:gd name="textAreaTop" fmla="*/ 59760 h 1800360"/>
                <a:gd name="textAreaBottom" fmla="*/ 1740600 h 1800360"/>
              </a:gdLst>
              <a:ahLst/>
              <a:rect l="textAreaLeft" t="textAreaTop" r="textAreaRight" b="textAreaBottom"/>
              <a:pathLst>
                <a:path w="21600" h="31731">
                  <a:moveTo>
                    <a:pt x="3600" y="0"/>
                  </a:moveTo>
                  <a:arcTo wR="3600" hR="3600" stAng="16200000" swAng="-5400000"/>
                  <a:lnTo>
                    <a:pt x="0" y="28131"/>
                  </a:lnTo>
                  <a:arcTo wR="3600" hR="3600" stAng="10800000" swAng="-5400000"/>
                  <a:lnTo>
                    <a:pt x="18000" y="317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5640" y="5300640"/>
              <a:ext cx="86364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5640" y="53006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5640" y="5661000"/>
              <a:ext cx="100800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95640" y="566100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V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5640" y="6021360"/>
              <a:ext cx="86364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5640" y="602136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05928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3564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08000" y="5229360"/>
            <a:ext cx="1223640" cy="1512360"/>
            <a:chOff x="108000" y="5229360"/>
            <a:chExt cx="1223640" cy="1512360"/>
          </a:xfrm>
        </p:grpSpPr>
        <p:sp>
          <p:nvSpPr>
            <p:cNvPr id="332" name=""/>
            <p:cNvSpPr/>
            <p:nvPr/>
          </p:nvSpPr>
          <p:spPr>
            <a:xfrm>
              <a:off x="108000" y="5229360"/>
              <a:ext cx="1223640" cy="151236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512360"/>
                <a:gd name="textAreaBottom" fmla="*/ 1452960 h 1512360"/>
              </a:gdLst>
              <a:ahLst/>
              <a:rect l="textAreaLeft" t="textAreaTop" r="textAreaRight" b="textAreaBottom"/>
              <a:pathLst>
                <a:path w="21600" h="26695">
                  <a:moveTo>
                    <a:pt x="3600" y="0"/>
                  </a:moveTo>
                  <a:arcTo wR="3600" hR="3600" stAng="16200000" swAng="-5400000"/>
                  <a:lnTo>
                    <a:pt x="0" y="23095"/>
                  </a:lnTo>
                  <a:arcTo wR="3600" hR="3600" stAng="10800000" swAng="-5400000"/>
                  <a:lnTo>
                    <a:pt x="18000" y="26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5400" y="5306040"/>
              <a:ext cx="107064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740720" y="333360"/>
            <a:ext cx="1152360" cy="151128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511280"/>
              <a:gd name="textAreaBottom" fmla="*/ 1455120 h 1511280"/>
            </a:gdLst>
            <a:ahLst/>
            <a:rect l="textAreaLeft" t="textAreaTop" r="textAreaRight" b="textAreaBottom"/>
            <a:pathLst>
              <a:path w="21600" h="28326">
                <a:moveTo>
                  <a:pt x="3600" y="0"/>
                </a:moveTo>
                <a:arcTo wR="3600" hR="3600" stAng="16200000" swAng="-5400000"/>
                <a:lnTo>
                  <a:pt x="0" y="24726"/>
                </a:lnTo>
                <a:arcTo wR="3600" hR="3600" stAng="10800000" swAng="-5400000"/>
                <a:lnTo>
                  <a:pt x="18000" y="28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96360" y="2276640"/>
            <a:ext cx="1368360" cy="11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2349360"/>
            <a:ext cx="122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construction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o of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157720"/>
            <a:ext cx="1008360" cy="151128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511280"/>
              <a:gd name="textAreaBottom" fmla="*/ 1462320 h 1511280"/>
            </a:gdLst>
            <a:ahLst/>
            <a:rect l="textAreaLeft" t="textAreaTop" r="textAreaRight" b="textAreaBottom"/>
            <a:pathLst>
              <a:path w="21600" h="32369">
                <a:moveTo>
                  <a:pt x="3600" y="0"/>
                </a:moveTo>
                <a:arcTo wR="3600" hR="3600" stAng="16200000" swAng="-5400000"/>
                <a:lnTo>
                  <a:pt x="0" y="28769"/>
                </a:lnTo>
                <a:arcTo wR="3600" hR="3600" stAng="10800000" swAng="-5400000"/>
                <a:lnTo>
                  <a:pt x="18000" y="3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5408640"/>
            <a:ext cx="85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8120" y="5259240"/>
            <a:ext cx="755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zon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loc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80360" y="4221000"/>
            <a:ext cx="1571400" cy="1008360"/>
            <a:chOff x="7380360" y="4221000"/>
            <a:chExt cx="1571400" cy="1008360"/>
          </a:xfrm>
        </p:grpSpPr>
        <p:sp>
          <p:nvSpPr>
            <p:cNvPr id="341" name=""/>
            <p:cNvSpPr/>
            <p:nvPr/>
          </p:nvSpPr>
          <p:spPr>
            <a:xfrm>
              <a:off x="7524720" y="4221000"/>
              <a:ext cx="1427040" cy="100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80360" y="4724280"/>
              <a:ext cx="1427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96360" y="4581360"/>
              <a:ext cx="952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tart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end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7640" y="4221000"/>
              <a:ext cx="1224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524720" y="5373720"/>
            <a:ext cx="1368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69080" y="551664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97800" y="6021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7800" y="59500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the relie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cl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419640" y="5084640"/>
            <a:ext cx="1538280" cy="1582920"/>
            <a:chOff x="3419640" y="5084640"/>
            <a:chExt cx="1538280" cy="1582920"/>
          </a:xfrm>
        </p:grpSpPr>
        <p:sp>
          <p:nvSpPr>
            <p:cNvPr id="350" name=""/>
            <p:cNvSpPr/>
            <p:nvPr/>
          </p:nvSpPr>
          <p:spPr>
            <a:xfrm>
              <a:off x="3419640" y="5084640"/>
              <a:ext cx="1081080" cy="1582920"/>
            </a:xfrm>
            <a:custGeom>
              <a:avLst/>
              <a:gdLst>
                <a:gd name="textAreaLeft" fmla="*/ 52560 w 1081080"/>
                <a:gd name="textAreaRight" fmla="*/ 1028520 w 1081080"/>
                <a:gd name="textAreaTop" fmla="*/ 52560 h 1582920"/>
                <a:gd name="textAreaBottom" fmla="*/ 1530360 h 15829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16480" y="5229360"/>
              <a:ext cx="144144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road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wid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breadth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8360" y="620640"/>
            <a:ext cx="1150920" cy="863640"/>
            <a:chOff x="468360" y="620640"/>
            <a:chExt cx="1150920" cy="863640"/>
          </a:xfrm>
        </p:grpSpPr>
        <p:sp>
          <p:nvSpPr>
            <p:cNvPr id="353" name=""/>
            <p:cNvSpPr/>
            <p:nvPr/>
          </p:nvSpPr>
          <p:spPr>
            <a:xfrm>
              <a:off x="468360" y="620640"/>
              <a:ext cx="863280" cy="863640"/>
            </a:xfrm>
            <a:custGeom>
              <a:avLst/>
              <a:gdLst>
                <a:gd name="textAreaLeft" fmla="*/ 42120 w 863280"/>
                <a:gd name="textAreaRight" fmla="*/ 821160 w 863280"/>
                <a:gd name="textAreaTop" fmla="*/ 42120 h 863640"/>
                <a:gd name="textAreaBottom" fmla="*/ 821520 h 86364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360" y="692280"/>
              <a:ext cx="1150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a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79640" y="5229360"/>
            <a:ext cx="93672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0920" y="5300640"/>
            <a:ext cx="129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holi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920" y="2637000"/>
            <a:ext cx="1366560" cy="1008000"/>
            <a:chOff x="34920" y="2637000"/>
            <a:chExt cx="1366560" cy="1008000"/>
          </a:xfrm>
        </p:grpSpPr>
        <p:sp>
          <p:nvSpPr>
            <p:cNvPr id="358" name=""/>
            <p:cNvSpPr/>
            <p:nvPr/>
          </p:nvSpPr>
          <p:spPr>
            <a:xfrm>
              <a:off x="34920" y="2637000"/>
              <a:ext cx="1223640" cy="100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00" y="2709720"/>
              <a:ext cx="1295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CLEAR OF SN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332000" y="98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56000" y="981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4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331640" y="907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331640" y="9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126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172360" y="4076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4076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7080" y="5877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33164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364000" y="5011560"/>
            <a:ext cx="216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00720" y="5373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95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30686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95280" y="378792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19528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4581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836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3645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84360" y="3644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036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692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360" y="34286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0836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2492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8920" y="692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5589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587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6000" y="5877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5589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36000" y="501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71628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92360" y="494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93080" y="4581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508464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000" y="692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34136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00360" y="5013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2000" y="404640"/>
            <a:ext cx="104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16360" y="260280"/>
            <a:ext cx="1368360" cy="43927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392720"/>
              <a:gd name="textAreaBottom" fmla="*/ 4326120 h 4392720"/>
            </a:gdLst>
            <a:ahLst/>
            <a:rect l="textAreaLeft" t="textAreaTop" r="textAreaRight" b="textAreaBottom"/>
            <a:pathLst>
              <a:path w="21600" h="69328">
                <a:moveTo>
                  <a:pt x="3600" y="0"/>
                </a:moveTo>
                <a:arcTo wR="3600" hR="3600" stAng="16200000" swAng="-5400000"/>
                <a:lnTo>
                  <a:pt x="0" y="65728"/>
                </a:lnTo>
                <a:arcTo wR="3600" hR="3600" stAng="10800000" swAng="-5400000"/>
                <a:lnTo>
                  <a:pt x="18000" y="69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60720" y="33192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81160" y="619200"/>
            <a:ext cx="13017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60720" y="2349360"/>
            <a:ext cx="84600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32000" y="2779560"/>
            <a:ext cx="102240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3500280"/>
            <a:ext cx="9367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l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2000" y="4005360"/>
            <a:ext cx="86688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4363920"/>
            <a:ext cx="8460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2779560"/>
            <a:ext cx="93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r’s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lic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4005360"/>
            <a:ext cx="43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40053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506920" y="2637000"/>
            <a:ext cx="1225800" cy="1800000"/>
            <a:chOff x="5506920" y="2637000"/>
            <a:chExt cx="1225800" cy="1800000"/>
          </a:xfrm>
        </p:grpSpPr>
        <p:grpSp>
          <p:nvGrpSpPr>
            <p:cNvPr id="417" name=""/>
            <p:cNvGrpSpPr/>
            <p:nvPr/>
          </p:nvGrpSpPr>
          <p:grpSpPr>
            <a:xfrm>
              <a:off x="5506920" y="2637000"/>
              <a:ext cx="1225440" cy="1800000"/>
              <a:chOff x="5506920" y="2637000"/>
              <a:chExt cx="1225440" cy="1800000"/>
            </a:xfrm>
          </p:grpSpPr>
          <p:sp>
            <p:nvSpPr>
              <p:cNvPr id="418" name=""/>
              <p:cNvSpPr/>
              <p:nvPr/>
            </p:nvSpPr>
            <p:spPr>
              <a:xfrm>
                <a:off x="5506920" y="2637000"/>
                <a:ext cx="1225440" cy="1800000"/>
              </a:xfrm>
              <a:custGeom>
                <a:avLst/>
                <a:gdLst>
                  <a:gd name="textAreaLeft" fmla="*/ 59760 w 1225440"/>
                  <a:gd name="textAreaRight" fmla="*/ 1165680 w 1225440"/>
                  <a:gd name="textAreaTop" fmla="*/ 59760 h 1800000"/>
                  <a:gd name="textAreaBottom" fmla="*/ 1740240 h 1800000"/>
                </a:gdLst>
                <a:ahLst/>
                <a:rect l="textAreaLeft" t="textAreaTop" r="textAreaRight" b="textAreaBottom"/>
                <a:pathLst>
                  <a:path w="21600" h="31724">
                    <a:moveTo>
                      <a:pt x="3600" y="0"/>
                    </a:moveTo>
                    <a:arcTo wR="3600" hR="3600" stAng="16200000" swAng="-5400000"/>
                    <a:lnTo>
                      <a:pt x="0" y="28124"/>
                    </a:lnTo>
                    <a:arcTo wR="3600" hR="3600" stAng="10800000" swAng="-5400000"/>
                    <a:lnTo>
                      <a:pt x="18000" y="3172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51280" y="3284280"/>
                <a:ext cx="86364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51280" y="328428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PP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51280" y="3644640"/>
                <a:ext cx="100800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51280" y="364464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PERV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51280" y="4005000"/>
                <a:ext cx="86364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51280" y="400500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580000" y="2708280"/>
              <a:ext cx="115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schedule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14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8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88000" y="342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08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508360" y="3789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8800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149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636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516360" y="335772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093080" y="263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93080" y="26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659280" y="3715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659280" y="3789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5964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236000" y="2923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600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516360" y="4076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516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1672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8036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88508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508360" y="4078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508360" y="41493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64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64000" y="3718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6400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3718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4076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59280" y="386064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59280" y="314172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59280" y="35002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82920" y="393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357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2924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00360" y="5373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500360" y="5300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8360" y="333360"/>
            <a:ext cx="1224000" cy="1511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511280"/>
              <a:gd name="textAreaBottom" fmla="*/ 1451520 h 151128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16200000" swAng="-5400000"/>
                <a:lnTo>
                  <a:pt x="0" y="23068"/>
                </a:lnTo>
                <a:arcTo wR="3600" hR="3600" stAng="10800000" swAng="-5400000"/>
                <a:lnTo>
                  <a:pt x="18000" y="26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6875280" y="5803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875280" y="587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4360" y="2349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2708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51640" y="342900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2997360"/>
            <a:ext cx="43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77080" y="3429000"/>
            <a:ext cx="43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04000" y="393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33360"/>
            <a:ext cx="122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CO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kind of st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quant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88000" y="1844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8000" y="98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88000" y="98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003640" y="90792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5003640" y="980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32360" y="9079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4400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84720" y="2708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372000" y="6188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372000" y="6922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88000" y="620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00720" y="69228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88000" y="33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2436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7596000" y="1267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596000" y="119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19280" y="3645000"/>
            <a:ext cx="792000" cy="288720"/>
            <a:chOff x="1619280" y="3645000"/>
            <a:chExt cx="792000" cy="288720"/>
          </a:xfrm>
        </p:grpSpPr>
        <p:sp>
          <p:nvSpPr>
            <p:cNvPr id="493" name=""/>
            <p:cNvSpPr/>
            <p:nvPr/>
          </p:nvSpPr>
          <p:spPr>
            <a:xfrm>
              <a:off x="1619280" y="3645000"/>
              <a:ext cx="576360" cy="28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19280" y="36450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ST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55600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31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3200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476000" y="3789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476000" y="37162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11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11280" y="2852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0920" y="386064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32000" y="2997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116000" y="3860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788000" y="5734080"/>
            <a:ext cx="863640" cy="287280"/>
            <a:chOff x="4788000" y="5734080"/>
            <a:chExt cx="863640" cy="287280"/>
          </a:xfrm>
        </p:grpSpPr>
        <p:sp>
          <p:nvSpPr>
            <p:cNvPr id="508" name=""/>
            <p:cNvSpPr/>
            <p:nvPr/>
          </p:nvSpPr>
          <p:spPr>
            <a:xfrm>
              <a:off x="4788000" y="5734080"/>
              <a:ext cx="647640" cy="287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8000" y="573408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ST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 flipH="1">
            <a:off x="5292720" y="6453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9272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00720" y="64533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645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3236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6021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32360" y="602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19640" y="6021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292720" y="602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6400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602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6453360"/>
            <a:ext cx="502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602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27640" y="645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9280" y="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INAL ER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342900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85080" y="39337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92720" y="2060640"/>
            <a:ext cx="136692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65800" y="2060640"/>
            <a:ext cx="115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contract_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148360" y="234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8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2205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8360" y="1268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65964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3280" y="24922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2133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55640" y="5084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0036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628640"/>
            <a:ext cx="83534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The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stabli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 in 1996, TED CONSTRUCT have th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gency office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Iasi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company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with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u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roads. The director wins a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276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fered by ADP (The Assosiation of the Public Roads) and with a team of workers, they build-up that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628640"/>
            <a:ext cx="73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Statement of th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D CONSTRUCT  needs an information system to help them organize their very active busi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155736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Statement of the proposed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opose a database that stores all the necessary information in an organized ma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1557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781360"/>
            <a:ext cx="504036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EMPLOY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r relate for   extra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178000"/>
            <a:ext cx="3024000" cy="4492800"/>
          </a:xfrm>
          <a:custGeom>
            <a:avLst/>
            <a:gdLst>
              <a:gd name="textAreaLeft" fmla="*/ 147600 w 3024000"/>
              <a:gd name="textAreaRight" fmla="*/ 2876400 w 3024000"/>
              <a:gd name="textAreaTop" fmla="*/ 147600 h 4492800"/>
              <a:gd name="textAreaBottom" fmla="*/ 4345200 h 4492800"/>
            </a:gdLst>
            <a:ahLst/>
            <a:rect l="textAreaLeft" t="textAreaTop" r="textAreaRight" b="textAreaBottom"/>
            <a:pathLst>
              <a:path w="21600" h="32090">
                <a:moveTo>
                  <a:pt x="3600" y="0"/>
                </a:moveTo>
                <a:arcTo wR="3600" hR="3600" stAng="16200000" swAng="-5400000"/>
                <a:lnTo>
                  <a:pt x="0" y="28490"/>
                </a:lnTo>
                <a:arcTo wR="3600" hR="3600" stAng="10800000" swAng="-5400000"/>
                <a:lnTo>
                  <a:pt x="18000" y="320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05000"/>
            <a:ext cx="1584360" cy="33732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492280"/>
            <a:ext cx="2089440" cy="155412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986360"/>
            <a:ext cx="1584360" cy="36684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407664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65444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river's licenc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530208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5878440"/>
            <a:ext cx="1513080" cy="2890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6237360"/>
            <a:ext cx="1513080" cy="28872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852640"/>
            <a:ext cx="4968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UPPLI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d of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tap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2637000"/>
            <a:ext cx="1655640" cy="2592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592360"/>
              <a:gd name="textAreaBottom" fmla="*/ 2511720 h 2592360"/>
            </a:gdLst>
            <a:ahLst/>
            <a:rect l="textAreaLeft" t="textAreaTop" r="textAreaRight" b="textAreaBottom"/>
            <a:pathLst>
              <a:path w="21600" h="33818">
                <a:moveTo>
                  <a:pt x="3600" y="0"/>
                </a:moveTo>
                <a:arcTo wR="3600" hR="3600" stAng="16200000" swAng="-5400000"/>
                <a:lnTo>
                  <a:pt x="0" y="30218"/>
                </a:lnTo>
                <a:arcTo wR="3600" hR="3600" stAng="10800000" swAng="-5400000"/>
                <a:lnTo>
                  <a:pt x="18000" y="33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708280"/>
            <a:ext cx="1368360" cy="246636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kind of sta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162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213000"/>
            <a:ext cx="4176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ZON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732720" y="2852640"/>
            <a:ext cx="1439640" cy="2160360"/>
            <a:chOff x="6732720" y="2852640"/>
            <a:chExt cx="1439640" cy="2160360"/>
          </a:xfrm>
        </p:grpSpPr>
        <p:sp>
          <p:nvSpPr>
            <p:cNvPr id="81" name=""/>
            <p:cNvSpPr/>
            <p:nvPr/>
          </p:nvSpPr>
          <p:spPr>
            <a:xfrm>
              <a:off x="6732720" y="2852640"/>
              <a:ext cx="1439640" cy="2160360"/>
            </a:xfrm>
            <a:custGeom>
              <a:avLst/>
              <a:gdLst>
                <a:gd name="textAreaLeft" fmla="*/ 70200 w 1439640"/>
                <a:gd name="textAreaRight" fmla="*/ 1369440 w 1439640"/>
                <a:gd name="textAreaTop" fmla="*/ 70200 h 2160360"/>
                <a:gd name="textAreaBottom" fmla="*/ 2090160 h 21603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6d6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48360" y="3213000"/>
              <a:ext cx="122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48360" y="2997000"/>
              <a:ext cx="10810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zo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tow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loc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628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645000"/>
            <a:ext cx="51116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FORECA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p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732720" y="3357720"/>
            <a:ext cx="1655640" cy="2087280"/>
            <a:chOff x="6732720" y="3357720"/>
            <a:chExt cx="1655640" cy="2087280"/>
          </a:xfrm>
        </p:grpSpPr>
        <p:sp>
          <p:nvSpPr>
            <p:cNvPr id="89" name=""/>
            <p:cNvSpPr/>
            <p:nvPr/>
          </p:nvSpPr>
          <p:spPr>
            <a:xfrm>
              <a:off x="6732720" y="3357720"/>
              <a:ext cx="1655640" cy="208728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2087280"/>
                <a:gd name="textAreaBottom" fmla="*/ 2006640 h 2087280"/>
              </a:gdLst>
              <a:ahLst/>
              <a:rect l="textAreaLeft" t="textAreaTop" r="textAreaRight" b="textAreaBottom"/>
              <a:pathLst>
                <a:path w="21600" h="27230">
                  <a:moveTo>
                    <a:pt x="3600" y="0"/>
                  </a:moveTo>
                  <a:arcTo wR="3600" hR="3600" stAng="16200000" swAng="-5400000"/>
                  <a:lnTo>
                    <a:pt x="0" y="23630"/>
                  </a:lnTo>
                  <a:arcTo wR="3600" hR="3600" stAng="10800000" swAng="-5400000"/>
                  <a:lnTo>
                    <a:pt x="18000" y="272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6d6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77080" y="3502080"/>
              <a:ext cx="1440000" cy="1604520"/>
            </a:xfrm>
            <a:prstGeom prst="rect">
              <a:avLst/>
            </a:prstGeom>
            <a:solidFill>
              <a:srgbClr val="b6d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5:29:45Z</dcterms:created>
  <dc:creator>Windows XPower</dc:creator>
  <dc:description/>
  <dc:language>en-US</dc:language>
  <cp:lastModifiedBy>elev</cp:lastModifiedBy>
  <dcterms:modified xsi:type="dcterms:W3CDTF">2007-12-11T06:47:25Z</dcterms:modified>
  <cp:revision>52</cp:revision>
  <dc:subject/>
  <dc:title>Slide 1</dc:title>
</cp:coreProperties>
</file>